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A8C-7217-4281-B628-A20C00FB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D09-CA08-4474-A7A6-9DDF499B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997-E408-4F01-AF08-DBEA1014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18B-2B5D-471E-9EFE-2B5C5DA9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EC22-0C43-4C3D-BDB3-F5BEAE3A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BA80-5F18-4DBA-909F-108C3630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AD6F-A39A-4BC4-90E4-4AAF2A9B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ADAC-8A90-480B-AEA7-4A7140C2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F25F-19C3-4B8C-B592-8A2FDE0B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57FA-76B4-44B8-82B5-C48961E8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36F5-81D1-45D1-A81D-485AD36A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A2E-B75A-489C-9EFE-01119832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1C5B-541A-4D0D-ACD8-9295E828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55AE-A106-4811-A828-FA674D97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0F08-33AD-471C-A064-7D311A17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ED58-F973-4D05-A310-D6C50B74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2C9B-E925-4BDA-8C89-BD7D2364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7C8-59FF-498F-AAC1-D3638DDC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B6E-54B5-4350-97BD-D9A73BF0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BC0-3D9E-45CF-819E-8CF7AC53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608-0033-4F34-A3B4-D1046295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061-4366-45BF-908C-EF6C2994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360-9B4D-4AF8-A2BF-81DD7E0E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879-45EC-482F-B5A7-4E804757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62A4-83FB-4512-ACBD-851CE5E065F2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F495-0C00-49E4-8F49-48CA18A24925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uter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</a:rPr>
              <a:t>Basic Compon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876920"/>
            <a:ext cx="1905120" cy="10666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Auxiliary</a:t>
            </a:r>
            <a:br>
              <a:rPr sz="2400"/>
            </a:b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3200400"/>
            <a:ext cx="1905120" cy="10666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3610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266720" y="4419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990680" y="44575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200400"/>
            <a:ext cx="1905120" cy="10666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4343040" y="28191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952520" y="28191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1600200"/>
            <a:ext cx="1905120" cy="10666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657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3200400"/>
            <a:ext cx="1905120" cy="10666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 Narrow"/>
              </a:rPr>
              <a:t>Types of Inp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Keybo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o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Barcode r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can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Voice data ent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OM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OC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Types of Outp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onitors (also known as VDUs or screen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Prin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Plot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Other types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The Process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Processing Power determined b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peed of operation of CP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mount of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Number of I/O devices it can hand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ome control functions of CP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ransmission of input data to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Process data held in main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ransmission of data from main memory to output devi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Main Mem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ade up of individual storage units called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by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otal number of bytes is referred to as computer’s memory si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9880" y="311004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= 1,000 bytes (actually 1024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= 1,000,000 (1 million) by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= 1,000,000,000 (1 billion) by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= 1,000,000,000,000 (1 trillion) by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3124080"/>
            <a:ext cx="2667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1 Kilobyte (K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1 Megabyte (M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1 Gigabyte (G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1 Terabyte (T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RAM and RO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RAM – Random Access Mem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tores current programs and da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It is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VOLATILE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lost when switched of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ROM – Read-Only Mem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Non-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VOLATILE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Instructions or programs permanently etched onto a chip. For example,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bootstrap loader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Auxiliary Stor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Hard di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tores operating system, systems and application software, and dat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ypical sizes are now 15-20 G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Floppy dis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ypical HD disk has capacity of 1.44 M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ypical capacity of 650-800 M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Zip Dis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apacity 100 and 250Mb disks. Internal or External models availab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9:00:03Z</dcterms:created>
  <dc:creator>Graham R Pugh</dc:creator>
  <dc:description/>
  <dc:language>en-US</dc:language>
  <cp:lastModifiedBy>Graham R Pugh</cp:lastModifiedBy>
  <dcterms:modified xsi:type="dcterms:W3CDTF">2001-02-04T14:13:30Z</dcterms:modified>
  <cp:revision>8</cp:revision>
  <dc:subject/>
  <dc:title>Intro to Systems</dc:title>
</cp:coreProperties>
</file>